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6.jpeg" ContentType="image/jpeg"/>
  <Override PartName="/ppt/media/image14.jpeg" ContentType="image/jpeg"/>
  <Override PartName="/ppt/media/image8.png" ContentType="image/png"/>
  <Override PartName="/ppt/media/image22.jpeg" ContentType="image/jpeg"/>
  <Override PartName="/ppt/media/image7.png" ContentType="image/png"/>
  <Override PartName="/ppt/media/image1.jpeg" ContentType="image/jpeg"/>
  <Override PartName="/ppt/media/image29.jpeg" ContentType="image/jpeg"/>
  <Override PartName="/ppt/media/image5.png" ContentType="image/png"/>
  <Override PartName="/ppt/media/image10.jpeg" ContentType="image/jpeg"/>
  <Override PartName="/ppt/media/image30.png" ContentType="image/png"/>
  <Override PartName="/ppt/media/image12.jpeg" ContentType="image/jpeg"/>
  <Override PartName="/ppt/media/image13.jpeg" ContentType="image/jpeg"/>
  <Override PartName="/ppt/media/image4.jpeg" ContentType="image/jpeg"/>
  <Override PartName="/ppt/media/image2.png" ContentType="image/png"/>
  <Override PartName="/ppt/media/image25.png" ContentType="image/png"/>
  <Override PartName="/ppt/media/image19.jpeg" ContentType="image/jpeg"/>
  <Override PartName="/ppt/media/image3.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6.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95707-4DC3-401F-BED6-6FC6D7DC7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710AF-79CA-4E40-A55B-16F72E4C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6EDA8-ECAB-4C60-8084-A057C22D28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52F8E-34B8-4727-B263-B2721E927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7F9746-A9E2-42D3-8CAE-25197E780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E4AC7-DB5A-46CD-B2F0-64CDE6EDF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9E4FD-FB25-4440-B9F9-E78396EAF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A3044-CFE7-4911-8848-BC3191E14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0DD8C3-1C52-4049-8560-7AB8B20B1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12CE7B-4F33-4EB3-B2C1-627252C509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AD992-38D5-4CD8-B0BE-6233FB85E1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A69F5-F9E1-40BC-81F5-BF3CE35C8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D677D-7498-4A65-809E-7B9045D02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85838-7538-4995-AB35-F8DA4BE0C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F9384-BCF4-4CDF-B023-61A598BFD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4B2F2-FBB1-4E4C-894B-A594385B5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43C3B-0287-4D1F-A80D-3A06FC57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8F70E-0B58-4FFF-A347-5C8B8E60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74AE4-CB8C-4450-84B1-FBE046692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080C-7A63-476A-AE93-3CA8A3DCF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7355F-61E5-4800-85FD-4E4DC682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2F479-CB48-4411-AD37-AD02EAC0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CFC63-6F44-42C1-91CD-27F3E726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4AFBD-84F9-4C1C-898B-7152B76BB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4030C-F390-444B-B6A3-1CF72B021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14824-234A-4255-AD16-993E63E40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B4B974-4466-4B41-BE9A-417F297D15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7E23F-90DB-45AB-844C-3850ECC62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40730-CC56-4DFC-AFED-0D4A1BFA8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94CD2-D8EA-4E1C-ABB2-D9E7E4ED9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586CCA-0086-42EC-8B64-98C2A4A06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87168-ACC8-4685-A376-6AE95C948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AADF1-E8DC-46D8-921F-B270719E6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A6BFC-2CF9-42A3-BD02-932CC42F5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43028-F2F4-46E1-8D68-984A54F17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11A46-37FE-45BC-A80F-BA112B69E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DEAAE-5F66-43D2-B088-C4A934532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5B3B1-267E-4D52-8DC5-A13EC2C5B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3F0225-2ECE-4C52-BD10-BFED3E2DCF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AD231E-0F7F-49A3-9DB3-005D7CA2AE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AD802-CCC5-4265-BA99-B1FF818CB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20602-0BA9-40C0-B32A-323E8E5BD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FAAB-B7C0-43E2-ABF1-2179E9CC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12D0D-5A81-40BA-98D5-8BC4EC95E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EFFEE-F9B1-471C-A957-047BFA526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85BF3-28E3-424C-82E6-CF31BB543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FDF37-6C70-40FD-82F9-6204264C0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43D2D-9849-4865-827B-8C9F34125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CA3B9-6ACD-4EC6-B3D8-7C0803B71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88D62-D050-4CAC-B156-217A7B7CC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802B94-FEDF-40E0-BD13-1CFFA0E03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EFE11-E4F8-4309-A7EE-7113DE6A84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E0AB9-5EBB-4A1D-8AB5-86BC74D97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4B65D-F382-44AC-AAD5-8F88971E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F5280-B01C-4FE1-93D3-36EDBC855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F71BC-4658-41FA-88B8-E0D130709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19685-66A1-43F1-A91A-4C9D013E4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4F302-F91E-49FA-BF4B-E56DC2DE2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C5214A-F57A-4D02-9FA8-8452C9293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1A054-391C-4842-981B-0953E2ED9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7D34B-BBED-474F-ACB3-E5012BBD4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1EA4A-0761-423D-AD0C-6CB379B58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D2DB7-87F9-4F35-9619-4AF773129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ABD94-72C1-4C61-B676-60312623B8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7E8F3-DE4D-487E-BA95-F65613A1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E76DA-3A64-48C3-9AF9-63A6EB4052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F11D18-F1D4-49AE-9E4F-0D98783E9E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9F236-2D9D-47A1-A16E-39838BAFF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3A2E5-BC89-4891-A5DC-F1211F325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B230F-FA75-44DF-B495-878ABDF211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E0D45-1EA6-4069-8847-783ADE7CD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1A8FA-8D42-4942-82F8-629BF5644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583D9-5963-4529-9C6C-8CD8E822B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CCFCA-F34F-4F0C-8A7E-8D6AD2970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8D875-C6B0-4687-967F-85FFAD218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01A0-E35D-43C3-8D3B-1991AC68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BCF03-0BA1-4297-BA56-60914E076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4FACBC-8528-41F4-8729-1D8C83759F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9443A-0A60-4676-B29D-6A495A292A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16A853-5D42-46C2-B6A4-1DC74B97EE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F6735E-5796-4C95-8E51-9E0C4BB18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48820-CB31-45A9-B8FD-A84F36CE1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89D15-3D29-4B6E-8D98-B19B64D0E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090FE-4993-4898-B0BC-5473E2D2F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97F4A-64A7-4729-AAAF-A3FB04A89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D6DE8-A192-43AE-9A6A-FE2AA99F6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B676-8943-44CE-B5A4-249403BF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F1D13-18A6-4CBB-9668-33C8E417A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082A9-FE38-46C1-BAA5-11B9CAD6C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D709E-0AD0-4756-A816-0FE3293F1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8DF850-0BEF-48FA-8AA8-F15A2D8001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2FF835-D17D-491F-9FE3-4C632142B4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426B1-00EB-4F2F-B26A-A5B7BFA449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5184C-135E-4E23-A983-C9E6B90C5C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6E1F37-7F4A-4247-AFE6-1A906CD78E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2171C-A53D-4FD3-A6D2-B8E345C956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20CAC8-77CD-4CC6-80BA-F46C9A978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188A3-AC95-4843-9616-48DC8CFC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F1BF0-5A04-42B7-88C5-1D825893D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55010-BF51-44FF-B377-6BD234F2C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43849-DE60-41C0-9255-6B9207282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45DDF-8DB3-4CF7-AD09-2FEA15939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E6369-B233-49DA-AFBF-89E9D7317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1FC191-59A8-4CA3-AD7E-69806086C4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E2E595-02D4-4448-9BE7-7B7DFE39CF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996CB2-55B7-4C52-9B1B-A2F1B1B75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D7A94D-B6EE-4958-A4E0-EB0E089C58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3E6DA2-1733-47DA-B588-45D11972E3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BD16-D2C4-44AA-93D6-1224010E3CC2}"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FD53-CF0F-4006-8682-D1125D514B62}"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FA1-4E12-4124-A71C-D5373B63FB0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FB7F-933B-4D96-A7B0-C1E1C0398040}" type="slidenum">
              <a:rPr b="0" lang="es-CO"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7267-E5DD-4BB5-80D4-14DF6E6BD7ED}"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48A4-0FD0-4DB9-ABDA-15E5C399EB6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762C-C3A9-4A00-94D5-ED577737E423}"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AA60-765C-4D70-9BAC-A18A6236B8A9}"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F9FB-82A3-4EE6-BAAC-7A012915DE78}"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291960" y="4761000"/>
            <a:ext cx="8553600" cy="1322280"/>
          </a:xfrm>
          <a:prstGeom prst="rect">
            <a:avLst/>
          </a:prstGeom>
          <a:ln w="0">
            <a:noFill/>
          </a:ln>
        </p:spPr>
      </p:pic>
      <p:sp>
        <p:nvSpPr>
          <p:cNvPr id="400" name="PlaceHolder 1"/>
          <p:cNvSpPr>
            <a:spLocks noGrp="1"/>
          </p:cNvSpPr>
          <p:nvPr>
            <p:ph type="subTitle"/>
          </p:nvPr>
        </p:nvSpPr>
        <p:spPr>
          <a:xfrm>
            <a:off x="178920" y="1890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43329"/>
                </a:solidFill>
                <a:latin typeface="Franklin Gothic Book"/>
              </a:rPr>
              <a:t>*3 HISTORIA &amp; DISEÑO</a:t>
            </a:r>
            <a:endParaRPr b="0" lang="en-US" sz="2400" spc="-1" strike="noStrike">
              <a:solidFill>
                <a:srgbClr val="4e3b30"/>
              </a:solidFill>
              <a:latin typeface="Franklin Gothic Book"/>
            </a:endParaRPr>
          </a:p>
        </p:txBody>
      </p:sp>
      <p:pic>
        <p:nvPicPr>
          <p:cNvPr id="401" name="Picture 6" descr="http://t3.gstatic.com/images?q=tbn:ANd9GcS1tmVXpEv85ZLVZMgVv52abxLUtrYijl8AqJLkkmBT0LDRyQdW"/>
          <p:cNvPicPr/>
          <p:nvPr/>
        </p:nvPicPr>
        <p:blipFill>
          <a:blip r:embed="rId2"/>
          <a:stretch/>
        </p:blipFill>
        <p:spPr>
          <a:xfrm>
            <a:off x="3708360" y="189000"/>
            <a:ext cx="5191200" cy="3527280"/>
          </a:xfrm>
          <a:prstGeom prst="rect">
            <a:avLst/>
          </a:prstGeom>
          <a:ln w="0">
            <a:noFill/>
          </a:ln>
        </p:spPr>
      </p:pic>
      <p:pic>
        <p:nvPicPr>
          <p:cNvPr id="402" name="1 Título" descr=""/>
          <p:cNvPicPr/>
          <p:nvPr/>
        </p:nvPicPr>
        <p:blipFill>
          <a:blip r:embed="rId3"/>
          <a:stretch/>
        </p:blipFill>
        <p:spPr>
          <a:xfrm>
            <a:off x="92160" y="5492880"/>
            <a:ext cx="8850240" cy="101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l  diseño  grafico para  el renacimiento italiano se  desarrollo  por  el  gusto de  la decoración floral, flores, enredaderas, arquitecturas , lo  cual  logro  grandes evoluciones  para  la lógica.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mpezaron  a  crear  diseños  geométricos, figuras  y  diversos colores en los  fond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t1.gstatic.com/images?q=tbn:ANd9GcRg-WxkfYrGyV2rsdFLz_TGut5jF4ILMw5gOaHEuD1e7bWyiU7s-A"/>
          <p:cNvPicPr/>
          <p:nvPr/>
        </p:nvPicPr>
        <p:blipFill>
          <a:blip r:embed="rId1"/>
          <a:stretch/>
        </p:blipFill>
        <p:spPr>
          <a:xfrm>
            <a:off x="250920" y="3645000"/>
            <a:ext cx="3457440" cy="2906640"/>
          </a:xfrm>
          <a:prstGeom prst="rect">
            <a:avLst/>
          </a:prstGeom>
          <a:ln w="0">
            <a:noFill/>
          </a:ln>
        </p:spPr>
      </p:pic>
      <p:pic>
        <p:nvPicPr>
          <p:cNvPr id="432" name="Picture 4" descr="http://t1.gstatic.com/images?q=tbn:ANd9GcQxeygZqmsDk02fHIo8QpR765ht10A0lLDV5oM8FKXPZ2At1K6zyA"/>
          <p:cNvPicPr/>
          <p:nvPr/>
        </p:nvPicPr>
        <p:blipFill>
          <a:blip r:embed="rId2"/>
          <a:stretch/>
        </p:blipFill>
        <p:spPr>
          <a:xfrm>
            <a:off x="3305160" y="1125360"/>
            <a:ext cx="5838840" cy="3383280"/>
          </a:xfrm>
          <a:prstGeom prst="rect">
            <a:avLst/>
          </a:prstGeom>
          <a:ln w="0">
            <a:noFill/>
          </a:ln>
        </p:spPr>
      </p:pic>
      <p:pic>
        <p:nvPicPr>
          <p:cNvPr id="433" name="Picture 6" descr="http://t0.gstatic.com/images?q=tbn:ANd9GcT8MHDj0QnDZFb87W0lvLKM1CAH8QmV-1a3BLRy1WdWdQLMHpCj"/>
          <p:cNvPicPr/>
          <p:nvPr/>
        </p:nvPicPr>
        <p:blipFill>
          <a:blip r:embed="rId3"/>
          <a:stretch/>
        </p:blipFill>
        <p:spPr>
          <a:xfrm>
            <a:off x="324000" y="1268280"/>
            <a:ext cx="282888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Uno  de los  estilos  grafico  mas  usados  en Italia fue  el estilo de línea  fina.</a:t>
            </a:r>
            <a:endParaRPr b="0" lang="en-US" sz="3200" spc="-1" strike="noStrike">
              <a:solidFill>
                <a:srgbClr val="4e3b30"/>
              </a:solidFill>
              <a:latin typeface="Franklin Gothic Book"/>
            </a:endParaRPr>
          </a:p>
        </p:txBody>
      </p:sp>
      <p:pic>
        <p:nvPicPr>
          <p:cNvPr id="436" name="Picture 2" descr="http://t2.gstatic.com/images?q=tbn:ANd9GcTNRmPNczgjRb1vmQ6k7_9sU5qxiQmhxYopXyytSyejV2LDVkmzTw"/>
          <p:cNvPicPr/>
          <p:nvPr/>
        </p:nvPicPr>
        <p:blipFill>
          <a:blip r:embed="rId1"/>
          <a:stretch/>
        </p:blipFill>
        <p:spPr>
          <a:xfrm>
            <a:off x="1979640" y="2781360"/>
            <a:ext cx="4786200" cy="33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3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Acompañado  de  anchas  márgenes  ilustraciones  única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Griffo diseño nuevas  letras  en  mayúscula para  ser utilizadas con las minúsculas, el  se  encargo  del tipo de letra, de la tinta  adecuada, el rasgo  y la  altura de la  letra, combinación de  márgenes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40" name=""/>
          <p:cNvSpPr txBox="1"/>
          <p:nvPr/>
        </p:nvSpPr>
        <p:spPr>
          <a:xfrm>
            <a:off x="304920" y="1554120"/>
            <a:ext cx="8686800" cy="4525920"/>
          </a:xfrm>
          <a:prstGeom prst="rect">
            <a:avLst/>
          </a:prstGeom>
          <a:noFill/>
          <a:ln w="0">
            <a:noFill/>
          </a:ln>
        </p:spPr>
        <p:txBody>
          <a:bodyPr anchor="t">
            <a:normAutofit/>
          </a:bodyPr>
          <a:p>
            <a:pPr lvl="4" marL="2057400" indent="-228600">
              <a:spcBef>
                <a:spcPts val="799"/>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4e3b30"/>
                </a:solidFill>
                <a:latin typeface="Franklin Gothic Book"/>
              </a:rPr>
              <a:t>                            </a:t>
            </a:r>
            <a:r>
              <a:rPr b="0" lang="es-CO" sz="1800" spc="-1" strike="noStrike">
                <a:solidFill>
                  <a:srgbClr val="4e3b30"/>
                </a:solidFill>
                <a:latin typeface="Franklin Gothic Book"/>
              </a:rPr>
              <a:t>	</a:t>
            </a:r>
            <a:r>
              <a:rPr b="1" lang="es-CO" sz="3200" spc="-1" strike="noStrike">
                <a:solidFill>
                  <a:srgbClr val="4e3b30"/>
                </a:solidFill>
                <a:latin typeface="Franklin Gothic Book"/>
              </a:rPr>
              <a:t>Manutius</a:t>
            </a:r>
            <a:endParaRPr b="0" lang="en-US" sz="3200" spc="-1" strike="noStrike">
              <a:solidFill>
                <a:srgbClr val="4e3b30"/>
              </a:solidFill>
              <a:latin typeface="Franklin Gothic Book"/>
            </a:endParaRPr>
          </a:p>
          <a:p>
            <a:pPr lvl="4" marL="2057400" indent="-228600">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4e3b30"/>
                </a:solidFill>
                <a:latin typeface="Franklin Gothic Book"/>
              </a:rPr>
              <a:t>                      </a:t>
            </a:r>
            <a:r>
              <a:rPr b="0" lang="es-CO" sz="1800" spc="-1" strike="noStrike">
                <a:solidFill>
                  <a:srgbClr val="4e3b30"/>
                </a:solidFill>
                <a:latin typeface="Franklin Gothic Book"/>
              </a:rPr>
              <a:t>Lanzo  el  prototipo de  libro de  bolsillo  era  de  7.7 por                 por  15.4cm</a:t>
            </a:r>
            <a:endParaRPr b="0" lang="en-US" sz="1800" spc="-1" strike="noStrike">
              <a:solidFill>
                <a:srgbClr val="4e3b30"/>
              </a:solidFill>
              <a:latin typeface="Franklin Gothic Book"/>
            </a:endParaRPr>
          </a:p>
        </p:txBody>
      </p:sp>
      <p:pic>
        <p:nvPicPr>
          <p:cNvPr id="441" name="Picture 2" descr="http://t3.gstatic.com/images?q=tbn:ANd9GcQita2KqpwgDycMCKL1-NGYoYwZnY7L09jcRw91J9pSDFsNIj4VAg"/>
          <p:cNvPicPr/>
          <p:nvPr/>
        </p:nvPicPr>
        <p:blipFill>
          <a:blip r:embed="rId1"/>
          <a:stretch/>
        </p:blipFill>
        <p:spPr>
          <a:xfrm>
            <a:off x="250920" y="404640"/>
            <a:ext cx="3384360" cy="3384720"/>
          </a:xfrm>
          <a:prstGeom prst="rect">
            <a:avLst/>
          </a:prstGeom>
          <a:ln w="0">
            <a:noFill/>
          </a:ln>
        </p:spPr>
      </p:pic>
      <p:pic>
        <p:nvPicPr>
          <p:cNvPr id="442" name="Picture 4" descr="http://unitproj.library.ucla.edu/special/images/anchor11.jpg"/>
          <p:cNvPicPr/>
          <p:nvPr/>
        </p:nvPicPr>
        <p:blipFill>
          <a:blip r:embed="rId2"/>
          <a:stretch/>
        </p:blipFill>
        <p:spPr>
          <a:xfrm>
            <a:off x="5364000" y="2565360"/>
            <a:ext cx="2953080" cy="39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4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Franklin Gothic Book"/>
              </a:rPr>
              <a:t>El siglo de oro época clásica de la cultura española, esencialmente el Renacimiento del siglo XVI y el Barroco del siglo XVII.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Franklin Gothic Book"/>
              </a:rPr>
              <a:t>Los grabadores  de  aquella  época eran  realmente  libreros, crearon  grandes  librerías  donde  encuadernaba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1 Título" descr=""/>
          <p:cNvPicPr/>
          <p:nvPr/>
        </p:nvPicPr>
        <p:blipFill>
          <a:blip r:embed="rId1"/>
          <a:stretch/>
        </p:blipFill>
        <p:spPr>
          <a:xfrm>
            <a:off x="103320" y="450720"/>
            <a:ext cx="8894520" cy="115272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Un  ilustrador utiliza  un amplia variedad de tipos romanos, tamaños, selecciona  viñetas, flores de imprenta, y  gran  variedad de efectos tonales</a:t>
            </a:r>
            <a:endParaRPr b="0" lang="en-US" sz="3200" spc="-1" strike="noStrike">
              <a:solidFill>
                <a:srgbClr val="4e3b30"/>
              </a:solidFill>
              <a:latin typeface="Franklin Gothic Book"/>
            </a:endParaRPr>
          </a:p>
        </p:txBody>
      </p:sp>
      <p:sp>
        <p:nvSpPr>
          <p:cNvPr id="447"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4"/>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6" descr="Titre : Livre d'Heures de Thielman Kerver&#10; Description : Folio-O2verso. La pentecôte. Le Christ de dérision. La flagellation du Christ. Sainte Martyre&#10; Auteur : Anonyme"/>
          <p:cNvPicPr/>
          <p:nvPr/>
        </p:nvPicPr>
        <p:blipFill>
          <a:blip r:embed="rId2"/>
          <a:stretch/>
        </p:blipFill>
        <p:spPr>
          <a:xfrm>
            <a:off x="6227640" y="3284640"/>
            <a:ext cx="2016360" cy="3171600"/>
          </a:xfrm>
          <a:prstGeom prst="rect">
            <a:avLst/>
          </a:prstGeom>
          <a:ln w="0">
            <a:noFill/>
          </a:ln>
        </p:spPr>
      </p:pic>
      <p:pic>
        <p:nvPicPr>
          <p:cNvPr id="450" name="Picture 2" descr="Titre : Enluminure P&#10; Description : &#10; Auteur : Anonyme"/>
          <p:cNvPicPr/>
          <p:nvPr/>
        </p:nvPicPr>
        <p:blipFill>
          <a:blip r:embed="rId3"/>
          <a:stretch/>
        </p:blipFill>
        <p:spPr>
          <a:xfrm>
            <a:off x="3203640" y="3500280"/>
            <a:ext cx="1944720" cy="28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5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Nace el Platin en Francia fue aprendiz de un  encuadernador estableció una tienda y  se  convirtió  en la mejor imprenta  con  gravados  en lamina de cobre en lugar de  los  de  madera  para ilustrar los  libros.</a:t>
            </a:r>
            <a:endParaRPr b="0" lang="en-US" sz="3200" spc="-1" strike="noStrike">
              <a:solidFill>
                <a:srgbClr val="4e3b30"/>
              </a:solidFill>
              <a:latin typeface="Franklin Gothic Book"/>
            </a:endParaRPr>
          </a:p>
        </p:txBody>
      </p:sp>
      <p:pic>
        <p:nvPicPr>
          <p:cNvPr id="453" name="Picture 4" descr="http://t1.gstatic.com/images?q=tbn:ANd9GcQNmGjUsgloNe081o0x6_2FA-dCfHa7dT6rhIPfyZW3bRsRsRhA2A"/>
          <p:cNvPicPr/>
          <p:nvPr/>
        </p:nvPicPr>
        <p:blipFill>
          <a:blip r:embed="rId1"/>
          <a:stretch/>
        </p:blipFill>
        <p:spPr>
          <a:xfrm>
            <a:off x="7236000" y="4005360"/>
            <a:ext cx="1742760" cy="2628720"/>
          </a:xfrm>
          <a:prstGeom prst="rect">
            <a:avLst/>
          </a:prstGeom>
          <a:ln w="0">
            <a:noFill/>
          </a:ln>
        </p:spPr>
      </p:pic>
      <p:pic>
        <p:nvPicPr>
          <p:cNvPr id="454" name="Picture 6" descr="http://t2.gstatic.com/images?q=tbn:ANd9GcQPa1c2pWhnLgIBX3B2TkSf79BL_WIVD0wQ-xW_SAGFMtlEnfxX1g"/>
          <p:cNvPicPr/>
          <p:nvPr/>
        </p:nvPicPr>
        <p:blipFill>
          <a:blip r:embed="rId2"/>
          <a:stretch/>
        </p:blipFill>
        <p:spPr>
          <a:xfrm>
            <a:off x="755640" y="4365720"/>
            <a:ext cx="2190600" cy="20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1 Título" descr=""/>
          <p:cNvPicPr/>
          <p:nvPr/>
        </p:nvPicPr>
        <p:blipFill>
          <a:blip r:embed="rId1"/>
          <a:stretch/>
        </p:blipFill>
        <p:spPr>
          <a:xfrm>
            <a:off x="103320" y="450720"/>
            <a:ext cx="8894520" cy="1152720"/>
          </a:xfrm>
          <a:prstGeom prst="rect">
            <a:avLst/>
          </a:prstGeom>
          <a:ln w="0">
            <a:noFill/>
          </a:ln>
        </p:spPr>
      </p:pic>
      <p:sp>
        <p:nvSpPr>
          <p:cNvPr id="456" name=""/>
          <p:cNvSpPr txBox="1"/>
          <p:nvPr/>
        </p:nvSpPr>
        <p:spPr>
          <a:xfrm>
            <a:off x="304920" y="1554120"/>
            <a:ext cx="8686800" cy="4525920"/>
          </a:xfrm>
          <a:prstGeom prst="rect">
            <a:avLst/>
          </a:prstGeom>
          <a:noFill/>
          <a:ln w="0">
            <a:noFill/>
          </a:ln>
        </p:spPr>
        <p:txBody>
          <a:bodyPr anchor="t">
            <a:normAutofit/>
          </a:bodyPr>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Época de  innovación  diseños gráficos  nuevos</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Mas competencia</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Negocios </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Se  dio  lugar  al  genio literario</a:t>
            </a:r>
            <a:endParaRPr b="0" lang="en-US" sz="3200" spc="-1" strike="noStrike">
              <a:solidFill>
                <a:srgbClr val="4e3b30"/>
              </a:solidFill>
              <a:latin typeface="Franklin Gothic Book"/>
            </a:endParaRPr>
          </a:p>
          <a:p>
            <a:pPr marL="514440" indent="-5144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r>
              <a:rPr b="0" lang="es-CO" sz="3200" spc="-1" strike="noStrike">
                <a:solidFill>
                  <a:srgbClr val="4e3b30"/>
                </a:solidFill>
                <a:latin typeface="Franklin Gothic Book"/>
              </a:rPr>
              <a:t>La  publicación  de las obras  más  talentos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5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Se establecieron talleres de  grabado independiente,  grabados  para  colgar  en la pared, tarjetas  para publicidad. Apartándose de la visión de los expresionistas abstractos surgieron jóvenes artistas de la cultura popular (Pop Ar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1554120"/>
            <a:ext cx="86868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4e3b30"/>
                </a:solidFill>
                <a:latin typeface="Franklin Gothic Book"/>
              </a:rPr>
              <a:t>Precedentes de  la  escritura.</a:t>
            </a:r>
            <a:endParaRPr b="0" lang="en-US" sz="2400" spc="-1" strike="noStrike">
              <a:solidFill>
                <a:srgbClr val="4e3b30"/>
              </a:solidFill>
              <a:latin typeface="Franklin Gothic Book"/>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4e3b30"/>
                </a:solidFill>
                <a:latin typeface="Franklin Gothic Book"/>
              </a:rPr>
              <a:t>    </a:t>
            </a:r>
            <a:r>
              <a:rPr b="0" lang="es-CO" sz="2400" spc="-1" strike="noStrike">
                <a:solidFill>
                  <a:srgbClr val="4e3b30"/>
                </a:solidFill>
                <a:latin typeface="Franklin Gothic Book"/>
              </a:rPr>
              <a:t>Las  etapas  del hombre  primitivo  empiezan  con  formas  muy  particulares  de comunicarsen.  En  el  renacimiento el analfabetismo estuvo  fuera  del  alcance del  campesino medieval  no  tenían profesores ni  personas  que instruyeran y  mucho  menos  el  acceso  a los  libros  por  que  en esa  época  eran  muy  caros, pero  con  el  grandioso invento  de  Gutenberg  conocida  como  la imprenta trajo  valiosos desarrollos  para  la humanidad haci  empezaron  los  comienzos  de la  escritura aunque  fue  un  trabajo  bastante  arduo por  que  tenían  que  crear  letra  por  letra.</a:t>
            </a:r>
            <a:endParaRPr b="0" lang="en-US" sz="2400" spc="-1" strike="noStrike">
              <a:solidFill>
                <a:srgbClr val="4e3b30"/>
              </a:solidFill>
              <a:latin typeface="Franklin Gothic Book"/>
            </a:endParaRPr>
          </a:p>
        </p:txBody>
      </p:sp>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1 Título" descr=""/>
          <p:cNvPicPr/>
          <p:nvPr/>
        </p:nvPicPr>
        <p:blipFill>
          <a:blip r:embed="rId1"/>
          <a:stretch/>
        </p:blipFill>
        <p:spPr>
          <a:xfrm>
            <a:off x="103320" y="450720"/>
            <a:ext cx="8894520" cy="1152720"/>
          </a:xfrm>
          <a:prstGeom prst="rect">
            <a:avLst/>
          </a:prstGeom>
          <a:ln w="0">
            <a:noFill/>
          </a:ln>
        </p:spPr>
      </p:pic>
      <p:pic>
        <p:nvPicPr>
          <p:cNvPr id="406" name="Picture 5" descr="http://t0.gstatic.com/images?q=tbn:ANd9GcQTMeZSdpun8j210PbwihXm233fGLGB6Mr91Lgb8ercLX8ijPkG"/>
          <p:cNvPicPr/>
          <p:nvPr/>
        </p:nvPicPr>
        <p:blipFill>
          <a:blip r:embed="rId2"/>
          <a:stretch/>
        </p:blipFill>
        <p:spPr>
          <a:xfrm>
            <a:off x="250920" y="1197000"/>
            <a:ext cx="3960720" cy="2967120"/>
          </a:xfrm>
          <a:prstGeom prst="rect">
            <a:avLst/>
          </a:prstGeom>
          <a:ln w="0">
            <a:noFill/>
          </a:ln>
        </p:spPr>
      </p:pic>
      <p:sp>
        <p:nvSpPr>
          <p:cNvPr id="407" name="AutoShape 9"/>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1"/>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3"/>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9"/>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21"/>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3"/>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5" descr="http://1.bp.blogspot.com/_7Z4VkO7XBCE/S_Nji-q8BrI/AAAAAAAAAAU/6Jx3Fjzm9t8/s1600/imprenta_antigua.jpg"/>
          <p:cNvPicPr/>
          <p:nvPr/>
        </p:nvPicPr>
        <p:blipFill>
          <a:blip r:embed="rId3"/>
          <a:stretch/>
        </p:blipFill>
        <p:spPr>
          <a:xfrm>
            <a:off x="4356000" y="3284640"/>
            <a:ext cx="4368960" cy="314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79280" y="764640"/>
            <a:ext cx="8686800" cy="4526280"/>
          </a:xfrm>
          <a:prstGeom prst="rect">
            <a:avLst/>
          </a:prstGeom>
          <a:noFill/>
          <a:ln w="0">
            <a:noFill/>
          </a:ln>
        </p:spPr>
        <p:txBody>
          <a:bodyPr anchor="t">
            <a:normAutofit fontScale="93000"/>
          </a:bodyPr>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Fue  así  como  se  realizo0  la  primera  Biblia la  cual   todo  el mundo quería  leer  informarse  aunque  habían  muchos que  así  la  tuvieran  en  sus  manos  no  sabrían  como  leerla  por  que  nadie  les  había  enseñado  y  tampoco  tenían los  medios  para  poder  aprender. Ya se  fueron realizando mas  copias  de la  Biblia con  colores  diferentes con decorados , ilustraciones  sombreada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1 Título" descr=""/>
          <p:cNvPicPr/>
          <p:nvPr/>
        </p:nvPicPr>
        <p:blipFill>
          <a:blip r:embed="rId1"/>
          <a:stretch/>
        </p:blipFill>
        <p:spPr>
          <a:xfrm>
            <a:off x="103320" y="450720"/>
            <a:ext cx="8894520" cy="1152720"/>
          </a:xfrm>
          <a:prstGeom prst="rect">
            <a:avLst/>
          </a:prstGeom>
          <a:ln w="0">
            <a:noFill/>
          </a:ln>
        </p:spPr>
      </p:pic>
      <p:pic>
        <p:nvPicPr>
          <p:cNvPr id="417" name="Picture 2" descr="http://t1.gstatic.com/images?q=tbn:ANd9GcRnxN5P7A3GmpOsidcBolZA1CFaoOUuRy08SavYKJtzhiQ51xPt"/>
          <p:cNvPicPr/>
          <p:nvPr/>
        </p:nvPicPr>
        <p:blipFill>
          <a:blip r:embed="rId2"/>
          <a:stretch/>
        </p:blipFill>
        <p:spPr>
          <a:xfrm>
            <a:off x="395280" y="1484280"/>
            <a:ext cx="3240000" cy="4343400"/>
          </a:xfrm>
          <a:prstGeom prst="rect">
            <a:avLst/>
          </a:prstGeom>
          <a:ln w="0">
            <a:noFill/>
          </a:ln>
        </p:spPr>
      </p:pic>
      <p:pic>
        <p:nvPicPr>
          <p:cNvPr id="418" name="Picture 4" descr="http://t3.gstatic.com/images?q=tbn:ANd9GcQBIWf53Pyoc9n5EPFe8QuLV1lpqRHllDAcSxEDGL0_oSwikzQmqQ"/>
          <p:cNvPicPr/>
          <p:nvPr/>
        </p:nvPicPr>
        <p:blipFill>
          <a:blip r:embed="rId3"/>
          <a:stretch/>
        </p:blipFill>
        <p:spPr>
          <a:xfrm>
            <a:off x="4356000" y="1557360"/>
            <a:ext cx="3060720" cy="41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20"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Peter Schöffer terminó el trabajo que inició su maestro en su ciudad y las Biblias fueron vendidas rápidamente a altos cargos del clero, incluido el Vaticano, a muy buen precio. Pronto empezaron a llover encargos de nuevos trabajos. La rapidez de la ejecución fue sin duda el detonante de su expansión, puesto que antes la entrega de un solo libro podía posponerse durante añ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sp>
        <p:nvSpPr>
          <p:cNvPr id="42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La tipografía  se  empieza  a propagar en Alemania,  se  puso  a la  vanguardia, las  personas  que  adquirían  las mejores   ilustraciones eran los  burgueses.</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Empiezan  a  imprimirse con  tipos  góticos, que  eran los  mas  familiares  para  el publico  francés,  duplican diseños  manuscrito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3600" spc="-1" strike="noStrike">
              <a:solidFill>
                <a:srgbClr val="4e3b30"/>
              </a:solidFill>
              <a:latin typeface="Franklin Gothic Medium"/>
            </a:endParaRPr>
          </a:p>
        </p:txBody>
      </p:sp>
      <p:pic>
        <p:nvPicPr>
          <p:cNvPr id="424" name="Picture 2" descr="http://t1.gstatic.com/images?q=tbn:ANd9GcS-GTb7nUd7IRtO0ETRuXW3qgjm0h2NzcLUrZVrZHt500x4ficU"/>
          <p:cNvPicPr/>
          <p:nvPr/>
        </p:nvPicPr>
        <p:blipFill>
          <a:blip r:embed="rId1"/>
          <a:stretch/>
        </p:blipFill>
        <p:spPr>
          <a:xfrm>
            <a:off x="324000" y="1341360"/>
            <a:ext cx="2232000" cy="2654280"/>
          </a:xfrm>
          <a:prstGeom prst="rect">
            <a:avLst/>
          </a:prstGeom>
          <a:ln w="0">
            <a:noFill/>
          </a:ln>
        </p:spPr>
      </p:pic>
      <p:pic>
        <p:nvPicPr>
          <p:cNvPr id="425" name="Picture 4" descr="http://t0.gstatic.com/images?q=tbn:ANd9GcSpOo-wJHViGds3gm7j1XJ7jhbKgNcwWW1tDl2qvIcaUxmj2OQCpg"/>
          <p:cNvPicPr/>
          <p:nvPr/>
        </p:nvPicPr>
        <p:blipFill>
          <a:blip r:embed="rId2"/>
          <a:stretch/>
        </p:blipFill>
        <p:spPr>
          <a:xfrm>
            <a:off x="3851280" y="2492280"/>
            <a:ext cx="4392720" cy="3278160"/>
          </a:xfrm>
          <a:prstGeom prst="rect">
            <a:avLst/>
          </a:prstGeom>
          <a:ln w="0">
            <a:noFill/>
          </a:ln>
        </p:spPr>
      </p:pic>
      <p:pic>
        <p:nvPicPr>
          <p:cNvPr id="426" name="Picture 6" descr="http://t1.gstatic.com/images?q=tbn:ANd9GcSt8jHm3LXQyAENHnxVJuGIZf4_-3pEDTSJJL9JnUe3PGNV5KV0oA"/>
          <p:cNvPicPr/>
          <p:nvPr/>
        </p:nvPicPr>
        <p:blipFill>
          <a:blip r:embed="rId3"/>
          <a:stretch/>
        </p:blipFill>
        <p:spPr>
          <a:xfrm>
            <a:off x="611280" y="4508640"/>
            <a:ext cx="246672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182520" y="4761000"/>
            <a:ext cx="8663040" cy="1689120"/>
          </a:xfrm>
          <a:prstGeom prst="rect">
            <a:avLst/>
          </a:prstGeom>
          <a:ln w="0">
            <a:noFill/>
          </a:ln>
        </p:spPr>
      </p:pic>
      <p:pic>
        <p:nvPicPr>
          <p:cNvPr id="428" name="Picture 2" descr="http://t3.gstatic.com/images?q=tbn:ANd9GcQQOwi779TF-2K2pzq0fLaVqqs2sajbpAWVjY4KGKfGf-vBaJud"/>
          <p:cNvPicPr/>
          <p:nvPr/>
        </p:nvPicPr>
        <p:blipFill>
          <a:blip r:embed="rId2"/>
          <a:stretch/>
        </p:blipFill>
        <p:spPr>
          <a:xfrm>
            <a:off x="1042920" y="692280"/>
            <a:ext cx="2808360" cy="37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01:34:27Z</dcterms:created>
  <dc:creator>Viviana</dc:creator>
  <dc:description/>
  <dc:language>en-US</dc:language>
  <cp:lastModifiedBy>Viviana</cp:lastModifiedBy>
  <dcterms:modified xsi:type="dcterms:W3CDTF">2011-10-17T21:44:03Z</dcterms:modified>
  <cp:revision>32</cp:revision>
  <dc:subject/>
  <dc:title>- PROYECTO 008</dc:title>
</cp:coreProperties>
</file>